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276-9F56-4824-BD37-A89A27F0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72A-D1B6-45C3-BEEA-45375054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B73-BAAB-443C-8CAC-E8660EFC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5DB-6089-45C6-95BB-4C16DABC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F29A-6DCC-4B9D-A361-C790D463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360E-697E-49C9-8E9E-743975D6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35B6-BF17-4E44-8F4E-7E2F109B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B3E8-EB62-4977-B46E-98D73CAE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C74-042C-4AD2-8C0F-3561073D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8EF3-EA7C-478F-84B5-780BE09C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1328-A71A-4232-922A-02E964BA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5F4E-26B9-4F11-B114-86CA1AEF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D9F6-3705-4EBA-8A5A-D5920D6A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D82-2C7F-4B6D-92B2-8C2BA37A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B4B9-744B-4E95-B1AF-50CE3306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DAE7-9872-4697-8DBC-4291ACE1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C820-509C-4EFF-A14B-848C654F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1A7-9A0E-48E5-BDD6-1CC1B7A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A93-A93C-4783-B645-D8D6AED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5D62-F2CD-4EFE-BDA9-1B881A2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5E5-5CB1-4F3C-97F6-13CC3257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A4FE-3F1B-4731-A4F5-93B8B5BB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A1C-54EC-4F9B-B2FD-449EA51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27C-E1C0-487F-8E53-006F7A8A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6098-6DF6-46BC-859D-D9237B687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122-1E0A-45C4-85C2-6F043357BD0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ngre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ngressional Power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2911680" cy="218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4952880" y="200160"/>
            <a:ext cx="385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ress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se are Congressional powers that are specifically stated in the Constitution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xpressed powers are also known as delegated power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38080" y="0"/>
            <a:ext cx="746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lect taxes and borrow mone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gulate foreign and interstate commer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in money and regulate its va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reate federal cour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gulate immigration and naturaliz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mpli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se are Congressional powers not stated specifically in the Constitution but suggested by the Constitution’s necessary and proper cla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clause is also called the elastic clau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of Implied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sets a federal minimum wag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-28800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established the United States Air Force. 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-2880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ongress creates federal laws against pollution.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 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n-legislative Powers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se are powers that enable the government to operate more effectively and help Congress serve as a check on the other branches of government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amples of Non-Legislative Powers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tify treaties (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rove Presidential appointments (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opose amendments to the Constitution (House or Senat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ring impeachment charges against federal officials (Hous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8:38:25Z</dcterms:created>
  <dc:creator>Sys Admin</dc:creator>
  <dc:description/>
  <dc:language>en-US</dc:language>
  <cp:lastModifiedBy>SysAdmin</cp:lastModifiedBy>
  <dcterms:modified xsi:type="dcterms:W3CDTF">2011-09-21T12:02:45Z</dcterms:modified>
  <cp:revision>21</cp:revision>
  <dc:subject/>
  <dc:title>The Congress</dc:title>
</cp:coreProperties>
</file>